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3C82-9BED-4D0E-A8A3-F35D23E06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68E3-9870-481B-84FC-6422A7FC3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E91A-4867-4412-8B27-10706F72E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234E-E514-4EBA-8363-974BBA8D8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C4B5-7AF1-4F53-9CB3-7A4F0011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A540-A312-41AA-A198-B337482C3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DAF2-A2E3-4BEA-93E5-69B20F97A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1A10-D9C0-4346-A7F5-7EEB6FFAE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512B-2D55-48BB-B607-74DF0C924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3648-5C8D-494E-B638-52EA8A6F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0F42-80FD-44AB-9922-96B7847F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7BE6-23AB-4C7B-BD69-777C3F3B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EEA0A-4058-48C8-9233-4C0AE5EC6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ny-plp.wikispaces.com/" TargetMode="External"/><Relationship Id="rId3" Type="http://schemas.openxmlformats.org/officeDocument/2006/relationships/hyperlink" Target="http://wny-plp.wikispaces.com/" TargetMode="External"/><Relationship Id="rId4" Type="http://schemas.openxmlformats.org/officeDocument/2006/relationships/hyperlink" Target="http://del.icio.us/tag/wnyplp21" TargetMode="Externa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http://wny-plp.wikispaces.com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abpc21.org/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780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" y="2814480"/>
            <a:ext cx="82296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werful Learning Practice 2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entury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ryl Nussbaum-B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l Richard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vember 5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295280" y="228600"/>
            <a:ext cx="5639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Getting the 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RIGHT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people </a:t>
            </a:r>
            <a:br>
              <a:rPr sz="3200"/>
            </a:b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on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the b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5410080"/>
            <a:ext cx="10670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848720" y="0"/>
            <a:ext cx="129528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95280" y="5638680"/>
            <a:ext cx="167652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209680" y="2044800"/>
            <a:ext cx="4267440" cy="321300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sp>
        <p:nvSpPr>
          <p:cNvPr id="116" name=""/>
          <p:cNvSpPr/>
          <p:nvPr/>
        </p:nvSpPr>
        <p:spPr>
          <a:xfrm>
            <a:off x="4038480" y="54864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Jim Collins, “Good to Grea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086600" y="2514600"/>
            <a:ext cx="2057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You were hand selected carefully as teacher leader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447920" y="304920"/>
            <a:ext cx="6553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he Schedu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95280" y="5334120"/>
            <a:ext cx="106704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772400" y="0"/>
            <a:ext cx="13716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19320" y="1008000"/>
            <a:ext cx="7924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Face-to-Face Meetings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Nov. 5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May 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lluminate Sessions </a:t>
            </a: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(2 pm – 4 p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Module 1 (Intro to 21st Century teaching) Nov. 29, Dec.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Module 2 (Cool Tools): Jan. 30, Feb. 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Module 3 (It's All About the Learning):  Feb 26, 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Module 4 (Virtual Learning Fair):  April  28, 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Virtual Learning Community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Ongo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19320" y="5638680"/>
            <a:ext cx="17524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905120" y="258840"/>
            <a:ext cx="5562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848720" y="0"/>
            <a:ext cx="129528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95280" y="5410080"/>
            <a:ext cx="10670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52480" y="380880"/>
            <a:ext cx="6705720" cy="641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Collaborative Tool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NY-PLP 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i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Del.icio.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Ellumin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Twi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19320" y="5638680"/>
            <a:ext cx="17524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848720" y="0"/>
            <a:ext cx="129528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95280" y="5410080"/>
            <a:ext cx="10670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18252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Planned 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95280" y="5638680"/>
            <a:ext cx="175284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19320" y="914400"/>
            <a:ext cx="7924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00"/>
                </a:solidFill>
                <a:latin typeface="Arial"/>
              </a:rPr>
              <a:t>Knowledge:</a:t>
            </a: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An understanding of the transform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potential of Web 2.0 tools in a global persp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and context, and how those potentials can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realized in scho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00"/>
                </a:solidFill>
                <a:latin typeface="Arial"/>
              </a:rPr>
              <a:t>Pedagogy:</a:t>
            </a: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An understanding of the shifting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literacies that the 21 Century demands and how th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literacies are being taught by trail-blaz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teachers who are already using the 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in their classroo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905120" y="258840"/>
            <a:ext cx="5562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848720" y="0"/>
            <a:ext cx="129528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5410080"/>
            <a:ext cx="10670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5638680"/>
            <a:ext cx="17524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71600" y="762120"/>
            <a:ext cx="75438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Connections</a:t>
            </a: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:</a:t>
            </a:r>
            <a:r>
              <a:rPr b="1" i="1" lang="en-US" sz="32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The development of sustained professional learning networks for team members to begin experimenting and sharing with other team members and online colleagues from around the world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Sustainability:</a:t>
            </a: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The creation of long term plans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move the vision forward in participating districts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the end of the program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00"/>
                </a:solidFill>
                <a:latin typeface="Arial"/>
              </a:rPr>
              <a:t>Capacity:</a:t>
            </a: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An increase in the abilities and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of individuals, teams and the community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manage 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52480" y="1522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Planned 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905120" y="258840"/>
            <a:ext cx="5562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848720" y="0"/>
            <a:ext cx="129528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95280" y="5410080"/>
            <a:ext cx="10670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38080" y="152280"/>
            <a:ext cx="67057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PLC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onceptual Framework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19320" y="5638680"/>
            <a:ext cx="17524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52480" y="1905120"/>
            <a:ext cx="68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C conceptual framework can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219320" y="1371600"/>
            <a:ext cx="754380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bbe0e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A solid foundation of collaboratively developed and widely shared vision, mission, values and goals that align with the 21</a:t>
            </a:r>
            <a:r>
              <a:rPr b="0" lang="en-US" sz="2800" spc="-1" strike="noStrike" baseline="30000">
                <a:solidFill>
                  <a:srgbClr val="bbe0e3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 Century learner’s nee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Collaborative teams that work interdependently to achieve common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bbe0e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A focus on results as evidenced by a commitment to 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905120" y="258840"/>
            <a:ext cx="5562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848720" y="0"/>
            <a:ext cx="129528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95280" y="5410080"/>
            <a:ext cx="10670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52480" y="380880"/>
            <a:ext cx="670572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Professional Learning Communiti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19320" y="5638680"/>
            <a:ext cx="17524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057400" y="2133720"/>
            <a:ext cx="6477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05120" y="1828800"/>
            <a:ext cx="66294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The driving engine of the collaborative culture of a PLC is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e team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. They work together in an ongoing effort to discover best practices and to expand their professional experti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PLCs are our best hope for reculturing schools. We want to focus on shifting from a culture of teacher isolation to a 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culture of deep and meaningful collaboration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095880" y="4876920"/>
            <a:ext cx="2400480" cy="1800000"/>
          </a:xfrm>
          <a:prstGeom prst="rect">
            <a:avLst/>
          </a:prstGeom>
          <a:ln w="28440">
            <a:solidFill>
              <a:srgbClr val="bbe0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7848720" y="0"/>
            <a:ext cx="129528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95280" y="5410080"/>
            <a:ext cx="10670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143000" y="15228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Professional Learning Communities</a:t>
            </a:r>
            <a:br>
              <a:rPr sz="3200"/>
            </a:b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ommunities of Continuous Improvement and Inqu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95280" y="5638680"/>
            <a:ext cx="175284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144792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Powerful Learning Practice  Team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47920" y="2209680"/>
            <a:ext cx="7391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47920" y="2362320"/>
            <a:ext cx="7086600" cy="38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bbe0e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Individually-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Write at least 3-5 assumptions you have about how you will operate as a 21</a:t>
            </a:r>
            <a:r>
              <a:rPr b="1" lang="en-US" sz="2000" spc="-1" strike="noStrike" baseline="30000">
                <a:solidFill>
                  <a:srgbClr val="ffcc00"/>
                </a:solidFill>
                <a:latin typeface="Arial"/>
              </a:rPr>
              <a:t>st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Century Learning team this year and any goals you have for the year as a team. 5 m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bbe0e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Place all the cards in the center of the table: Stack and shuff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bbe0e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In turn,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ach team member picks a card to read aloud to the table. Engage in dialogue and discussion about the assumptions. 15 m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ttp://wnyplp.ning.co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NBEACH@COX.NE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EBLOGGED@GMAIL.COM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ortant li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ttp://wnyplp.ning.c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ttp://wny-plp.wikispaces.c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nbeach@cox.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blogged@gmail.c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kype: snbea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kype: willrich4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848720" y="0"/>
            <a:ext cx="129528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95280" y="5410080"/>
            <a:ext cx="10670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19320" y="5638680"/>
            <a:ext cx="175248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441440" y="1295280"/>
            <a:ext cx="3676680" cy="541044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5638680" y="198108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Our _x000b_Virtual Handou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57800" y="58672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oto Credit: A socially networked student in an unplugged class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76320"/>
            <a:ext cx="8001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Times New Roman"/>
              </a:rPr>
              <a:t>    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Powerful Learning Practice (PLP)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f2f Celeb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523880" y="76320"/>
            <a:ext cx="7391520" cy="70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ere are you on the developmental continuum for 21st Century teaching and learning- on a  “know nothing” to “know everything” scale?               </a:t>
            </a:r>
            <a:r>
              <a:rPr b="1" lang="en-US" sz="1800" spc="-1" strike="noStrike">
                <a:solidFill>
                  <a:srgbClr val="ff6699"/>
                </a:solidFill>
                <a:latin typeface="Arial"/>
              </a:rPr>
              <a:t>(Please place your vote on cha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ewb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newcomer to cyberspace, Web 2.0 and/or social networking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xplorer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lling to try a few new things, ask questions, and starting to gain an awareness around using  blogs, wikis, podcasts, and vidcasts in instruction. You have possibly joined a listserv and are sharing ideas with other teachers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ath Finder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or your students have created a blogs, wiki, or podcast. Some of your teaching is delivered in a student centered, inquiry-based format. You are reading articles/books about how to use Web 2.0 tools with your students. You understand the term digital nativ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wer User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blog and teach others how to blog. You use flickr, RSS, del.icio.us, and a wiki regularly. You can give at least three traits of a netgener and confusion and chaos do not bother you anymore. You regularly use project/problem based teaching in your classroo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Western NY PLP Schools/Districts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-------------------------------------------------------------------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0" y="1066680"/>
          <a:ext cx="9144000" cy="647712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47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Randolph CS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pringville Griffi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Franklinville Cent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Iroquois Cent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East Aurora UFSD 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East Aurora UFSD 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East Aurora UFSD 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heektowaga Cent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ioneer Cent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weet Home CS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Holland CS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Niagara Academ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Nico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ilver Cree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Brighton 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Brighton 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Webster 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Webster 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Monroe Cross District (A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753840" cy="771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75384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WNY PLP </a:t>
            </a:r>
            <a:br>
              <a:rPr sz="2800"/>
            </a:br>
            <a:r>
              <a:rPr b="0" lang="en-US" sz="3600" spc="-1" strike="noStrike">
                <a:solidFill>
                  <a:srgbClr val="33cc33"/>
                </a:solidFill>
                <a:latin typeface="Arial"/>
              </a:rPr>
              <a:t>Team Leaders</a:t>
            </a:r>
            <a:br>
              <a:rPr sz="36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-------------------------------------------------------------------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1600200"/>
          <a:ext cx="4036320" cy="2184120"/>
        </p:xfrm>
        <a:graphic>
          <a:graphicData uri="http://schemas.openxmlformats.org/drawingml/2006/table">
            <a:tbl>
              <a:tblPr/>
              <a:tblGrid>
                <a:gridCol w="4036320"/>
              </a:tblGrid>
              <a:tr h="2184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ic Lawt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4648320" y="1600200"/>
          <a:ext cx="4036320" cy="2184120"/>
        </p:xfrm>
        <a:graphic>
          <a:graphicData uri="http://schemas.openxmlformats.org/drawingml/2006/table">
            <a:tbl>
              <a:tblPr/>
              <a:tblGrid>
                <a:gridCol w="4036320"/>
              </a:tblGrid>
              <a:tr h="2184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enda P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457200" y="3938760"/>
          <a:ext cx="4036320" cy="2185560"/>
        </p:xfrm>
        <a:graphic>
          <a:graphicData uri="http://schemas.openxmlformats.org/drawingml/2006/table">
            <a:tbl>
              <a:tblPr/>
              <a:tblGrid>
                <a:gridCol w="4036320"/>
              </a:tblGrid>
              <a:tr h="2185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enda P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304920" y="1219320"/>
          <a:ext cx="9144000" cy="716904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716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William Caldwe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Brenda Pet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indy Crand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Regina Beck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olleen Klimchu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James Hoagl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James Bodzia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teven Wr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amela Katterman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Jenifer Gilson</a:t>
                      </a:r>
                      <a:br>
                        <a:rPr sz="2000"/>
                      </a:b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Eric Lawt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ushma Sztor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usan All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Kathleen Grad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Rob Thom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teven Schafheim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Erin El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Barb Goldamm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Lisa Clar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753840" cy="771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753840" cy="771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"/>
          <p:cNvGraphicFramePr/>
          <p:nvPr/>
        </p:nvGraphicFramePr>
        <p:xfrm>
          <a:off x="4267080" y="3156120"/>
          <a:ext cx="609480" cy="547560"/>
        </p:xfrm>
        <a:graphic>
          <a:graphicData uri="http://schemas.openxmlformats.org/drawingml/2006/table">
            <a:tbl>
              <a:tblPr/>
              <a:tblGrid>
                <a:gridCol w="609480"/>
              </a:tblGrid>
              <a:tr h="550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rb Goldamm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WNY PLP </a:t>
            </a:r>
            <a:br>
              <a:rPr sz="2800"/>
            </a:br>
            <a:r>
              <a:rPr b="0" lang="en-US" sz="3600" spc="-1" strike="noStrike">
                <a:solidFill>
                  <a:srgbClr val="33cc33"/>
                </a:solidFill>
                <a:latin typeface="Arial"/>
              </a:rPr>
              <a:t>21</a:t>
            </a:r>
            <a:r>
              <a:rPr b="0" lang="en-US" sz="3600" spc="-1" strike="noStrike" baseline="30000">
                <a:solidFill>
                  <a:srgbClr val="33cc33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33cc33"/>
                </a:solidFill>
                <a:latin typeface="Arial"/>
              </a:rPr>
              <a:t> Century Fellows</a:t>
            </a:r>
            <a:br>
              <a:rPr sz="36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-------------------------------------------------------------------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57200" y="1600200"/>
          <a:ext cx="4036320" cy="2184120"/>
        </p:xfrm>
        <a:graphic>
          <a:graphicData uri="http://schemas.openxmlformats.org/drawingml/2006/table">
            <a:tbl>
              <a:tblPr/>
              <a:tblGrid>
                <a:gridCol w="4036320"/>
              </a:tblGrid>
              <a:tr h="2184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ic Lawt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4648320" y="1600200"/>
          <a:ext cx="4036320" cy="2184120"/>
        </p:xfrm>
        <a:graphic>
          <a:graphicData uri="http://schemas.openxmlformats.org/drawingml/2006/table">
            <a:tbl>
              <a:tblPr/>
              <a:tblGrid>
                <a:gridCol w="4036320"/>
              </a:tblGrid>
              <a:tr h="2184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enda P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457200" y="3938760"/>
          <a:ext cx="4036320" cy="2185560"/>
        </p:xfrm>
        <a:graphic>
          <a:graphicData uri="http://schemas.openxmlformats.org/drawingml/2006/table">
            <a:tbl>
              <a:tblPr/>
              <a:tblGrid>
                <a:gridCol w="4036320"/>
              </a:tblGrid>
              <a:tr h="2185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enda P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04920" y="1219320"/>
          <a:ext cx="9144000" cy="647676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47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Angela Stock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Kristen Marchio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usan Rothwe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Michelle Ok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Mansel Wel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Donna Frymi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Dave Mileh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Jeanne My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Brian Blasza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armelita Bienie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Theresa Gr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Jeff Bar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aroyln Ki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Tim Clar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Rick Weinber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Mark Car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heryl Fi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Brian C. Smi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Tadge O'Brie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Doreen Pietrantoni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753840" cy="771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75384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523880" y="304920"/>
            <a:ext cx="65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Powerful Learning Practice for Administrators and Teacher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1523880"/>
            <a:ext cx="1828800" cy="1905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2209680"/>
            <a:ext cx="533160" cy="6098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523880"/>
            <a:ext cx="2133720" cy="1905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781680" y="1523880"/>
            <a:ext cx="1828800" cy="1905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95880" y="2209680"/>
            <a:ext cx="533520" cy="6098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15238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2F- Lau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05320" y="1905120"/>
            <a:ext cx="1143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05320" y="1905120"/>
            <a:ext cx="1143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267080" y="15238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lu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238880" y="1523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1905120"/>
            <a:ext cx="17524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ate a sense of urgency, build community, whet appeti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91120" y="1828800"/>
            <a:ext cx="1676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ve meetings where 50 + meet,  listen and then reflect in small group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924680" y="0"/>
            <a:ext cx="121932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95280" y="5486400"/>
            <a:ext cx="99072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1905120"/>
            <a:ext cx="1828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LC where we deepen understanding, network, and share resourc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371600" y="3657600"/>
            <a:ext cx="72388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Purpo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A virtual community designed to help participants gain an understanding of the transformative potential of Web 2.0 tools in a global perspective and context, and how those potentials can be translated into classroom practice in Western NY schoo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5638680"/>
            <a:ext cx="17524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447920" y="1523880"/>
            <a:ext cx="73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106200"/>
            <a:ext cx="563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Building on Succes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95280" y="5410080"/>
            <a:ext cx="10670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848720" y="0"/>
            <a:ext cx="129528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5638680"/>
            <a:ext cx="16002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05120" y="1523880"/>
            <a:ext cx="609588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523880" y="1190160"/>
            <a:ext cx="73915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20 schools (teams of 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Each team has a l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20 Fellows to support the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2 f2f meet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4 live curriculum s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ngoing collaboration in V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re/Post 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Development of 3-5 year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52480" y="106200"/>
            <a:ext cx="56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5410080"/>
            <a:ext cx="10670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48720" y="0"/>
            <a:ext cx="129528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858000" y="0"/>
            <a:ext cx="1946160" cy="19908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295280" y="5638680"/>
            <a:ext cx="167652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09:45:50Z</dcterms:created>
  <dc:creator>Your User Name</dc:creator>
  <dc:description/>
  <dc:language>en-US</dc:language>
  <cp:lastModifiedBy>Sheryl Nussbaum-Beach</cp:lastModifiedBy>
  <dcterms:modified xsi:type="dcterms:W3CDTF">2007-11-05T19:25:02Z</dcterms:modified>
  <cp:revision>112</cp:revision>
  <dc:subject/>
  <dc:title>Slide 1</dc:title>
</cp:coreProperties>
</file>